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721-3517-4502-8C25-194A9BB9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FD7-CBB3-430A-A722-E42A74E8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979-35C1-4C2A-8190-7E3013B4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9BA-6430-4272-A2BB-0941D8A4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C466-FF49-40B3-BD0B-9BE9DFDC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0568-BC50-4729-AABB-91166FF1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BCF-01ED-4A3C-8D74-7411941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DBFC-4550-4E41-84A7-977AE057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3E5B-1834-4A0F-A5AE-0F8DB5E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3455-3DAC-4631-A256-6D8787A6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80C7-0877-4710-B14B-1F4E074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0A2-94E0-42CB-BF86-111FC931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F71-D9B5-4230-9253-026A103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74FA-FFFA-42A7-8116-C14BF75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D544-0135-4075-AA94-75E4FBA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665-F1B4-40F6-B721-2A03A3D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D2D1-B89F-432F-BAC8-2C8ED61F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CE4-8F0D-4285-8D7F-BE432C90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29E-4479-473B-88A0-C9B98900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CA2-DB96-462B-AE4C-D77BF34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71F-223F-4D6F-986C-28D8647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105-5BF3-42E5-A458-853370B7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8A1-CA0A-486F-9D66-3D7C0022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E75-1FA4-457C-B86D-88F44B8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CA7C-F217-4FF1-8A20-2F86200D5F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AB0-00EB-41B4-9826-97EC7DFC15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tone 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Based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o not score proficient or above on the Keystone Exam after having taken the test at least twice, may choose to complete a Project-Based Assessment for the modules they did not p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BA is not meant to be easier.  It assesses the same Eligible Content at the same DOK as the Keystone Ex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is a T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only work on the project at school.  This includes any student in cyber school or a student who is homeschoo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have a monitor to sign them into the website and remain present while they work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itor can be an a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s are assigned to each student and should be certified in the content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is a Test (Continued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s cannot actually help students with the content of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s can point students toward practice problems in the eligible content and provide some remediation based on student need in a particular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tor must review the project at set checkpoints and “sign off” on the project before it is sent to the state for sc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me Constraint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complete a project for each non-proficient mo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ject is supposed to take 5-7 hours to comple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rame to complete each project is determined by the distr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As will be scored by statewide panels composed of teachers, principals, and curriculum specialist assembled by P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will be scored according to rubrics developed by P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scored by two scorers.  A third scorer will be added if the two initial scores do not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scored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satisfa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oring (Continued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take the Keystone Exam even if they have started a project.  If they pass the Keystone, the project does not need to be sub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tudent received an Unsatisfactory score on a project, the project will be returned for corr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eacher can apply to be a PBA evalu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cessing Proj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complete the project onli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ay use an outside source to complete a problem (example: a graph in math) and this must be uploaded in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login for the test is good for one hour and work is saved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7:49:46Z</dcterms:created>
  <dc:creator>Stacey Meckes</dc:creator>
  <dc:description/>
  <dc:language>en-US</dc:language>
  <cp:lastModifiedBy>Stacey Meckes</cp:lastModifiedBy>
  <dcterms:modified xsi:type="dcterms:W3CDTF">2014-03-10T18:24:12Z</dcterms:modified>
  <cp:revision>2</cp:revision>
  <dc:subject/>
  <dc:title>Keystone Exams</dc:title>
</cp:coreProperties>
</file>